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B81-DC0F-455B-A890-EB5D2012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ED9F-BF7F-4B9C-9852-85A3899B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3AF6-BD0D-40E2-B519-547BE312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0C78-B537-4CA6-8DFB-321723A5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D8DEA-5B6A-4059-BB90-D60006F7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B065D-E4BA-421B-BDCB-F7556F61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0AD9F-B72D-47DC-8C58-FE2DE7D8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3F8C7-E206-495D-B1B2-DBBEB8F7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6B7F4-9A2B-4015-93A8-0BB2D89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FC942-5619-4503-BD03-C8BE7AED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CC39F-4F17-45BC-93B1-E14E5562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29BA5-E2D1-4386-A626-F434D0BE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CE66B-A74B-4BA8-B770-A54B828F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624B-69E7-4AA7-86CF-E39D0D1D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C1CC-03FF-45FB-A662-C25446DD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25209-9D97-465C-8A23-F0EA959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1442F-C6BF-4238-8953-806C772D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87CAC-9742-40E8-B417-0D5059A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8A662-4FB7-4658-ACAD-531B320C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DF425-D477-4CAF-95C7-044B61D96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D2D93-F3D3-40BD-BABA-0281E5C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B3552-0990-4C7A-B28B-D81B4A61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A069A-707C-41A3-9637-0D6EBF5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72BCC-FA7D-411C-A6D0-63B4F4B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BCE71-DD1A-48EA-AFAA-D2152014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10D4-63FF-4392-B9DA-973E182A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A7977-C9DA-4B2D-B16A-80A2A91E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A3668-68EC-44C8-BCD3-70CC8182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763E8-96ED-4F7E-9684-CC66E8B9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309F9-5003-4ECE-93B2-A9D4696B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C8CD3-497A-41C5-85D8-ACD9252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C2706-C058-4F75-9925-229DC9F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98882-1B7A-408E-8AEA-D630C006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5FC79-628C-4D91-B824-9820E7A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F3CADF-75DA-42FA-874C-29391D69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403AD-6762-4D7B-9D9E-1611683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8432-2F61-4653-9CA1-375C7CA0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CEB92-7A32-4870-9FC2-4AD01BB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81C81-18D0-413B-97EC-D30F9E8E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63B4B-0023-4B89-84A2-1DAE0A13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C45BD-FF5E-48C8-A180-15ABF8CD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224AEB-1F0B-4841-B6EF-177BCBF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FCB7D-CD0C-4237-AEF4-BC92D01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8882D-E532-4E07-97A0-10962DD2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19034-98AC-4829-BE92-E011F715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78AB8-C5ED-490C-A6E5-A0F175F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EEEC9-C3C5-4789-9889-322CEE2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D812-A79C-432D-89C5-E2C34184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57547-F510-4790-BEDF-49873AC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998F3-36F4-4C5C-8219-C44855F2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E88E3-4135-423E-9016-C4167817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4285B-4B05-45F2-841F-44608692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3A400-AF06-4DC2-8881-EED9AF4F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20BC1-84FC-464F-8FDB-38E7D0775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38104-08BA-414C-96F4-30CC3CDF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8C429-11F4-46BF-8752-8E56840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FA316-F5FD-41F4-BC12-B56F05E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B9B5E-4CB5-45AF-AC37-4B1E19C2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DE61-45BC-4D16-B08F-40D7FD87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4233E-87A9-4AA4-A1B4-0EFA9D95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D266F-E585-4C31-97E2-B52EF7A3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8EB8E8-0D35-4812-AB0D-7CD450A4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B1536-7597-4A2B-84B9-609E688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B68A-DF3F-4785-AB28-2B0F6166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7C61EA-CF61-40C5-B8C1-A26F032B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54D0BD-6411-493D-AFEC-E67EDFF1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3C5E-D36C-4690-A435-741515B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DB3F-CC90-400C-A721-B5F5E760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FDE0-1E29-4A9B-8387-70AD7D6A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080-8DC9-49BD-9060-1AA52891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E07EC-CEF6-4679-A781-A858CD3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EEB2-832C-4831-8119-DEA648A2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09E23-69AD-4D4F-BE66-981A382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7DA3-CA5A-48EB-B52B-59ABFC4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AF0E-1FDC-4E1E-A6AA-B9A2545A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88EE-1189-4573-B2C5-3AF2D5FE0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47299-2C77-452E-804A-9C4303C1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6F30E-CD8D-4417-BE58-3A2A2B52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46B39-4954-49D2-857B-F64C1B14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DE53A-CC09-400C-8627-C697F521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BE43B-5E33-4D9F-9BFC-3D6629B9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D60BC-7580-479E-BE35-EC3E97A0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7CD2A-079D-4D25-BDCD-7782B2B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62D74-0482-4695-A3C6-5D06DD38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1DEC4-3710-4FC9-A960-7B61E1FD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C4DAA-420E-4AF1-9A2D-DAD654F6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3BC72-D4B9-45AE-84DB-33F10923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E7FFF-F543-401E-A7A7-0BBF985C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7B80A-D291-460A-94FA-47216488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EB23-417F-4974-89CC-C8FB0FCB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49D1-6AEE-4113-A721-01A725BE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714F-6098-406C-8AB2-E6A4D7E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79AAB-9771-41F2-8411-55BFDBCE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C3D7D-A708-4615-BB82-9C9702D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6AE4E-C175-4EFE-A06A-7052BA7E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06ECD-C9CC-4A25-9405-4C896FF0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2A4F-280C-461C-BE60-05FB3EF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18424-1D12-4ADA-9FCE-735BB67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2733E-24B0-4CEC-ABE8-CD488C2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C5417-215E-4656-8058-DC16125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4DD4D-FE62-4980-A24F-DC282AA8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3BDC1-1B8F-46EC-A895-9F9D655D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97EA4-4955-4559-A5EC-C0E58507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3701-89B7-4EB4-8F50-72E7590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5FF1-2ED3-468F-86C8-0F8FE5B2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FEF7-EEBF-4BA0-BF15-8EC70C56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43E26-901F-48C0-AA50-866DF8A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B9859-337C-4C6A-9422-1ED9020A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67BF1-36CA-40E8-8D2F-7B1E7D50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250D4-65DC-4DB8-911B-DB042411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D3DC-44BB-448F-8986-412728CA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E157-2A12-4C35-8BDE-1BBCE2C8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3DC67-0C93-4772-A727-608B826F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C0574-6692-4B39-AAD5-0A6C9E5B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3414-CF5F-4541-AAB8-61FEE2E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E5CDB-5E9A-4598-B507-7892B70E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C6D0-8A21-4AEA-9F25-19D1223A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7037D-27A9-4E16-88D6-6667BF13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62E00-FA77-40C0-A865-1ADF8C46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77E6-40BA-417C-A973-5999E68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D0947-10A6-437B-810F-ACE8AFF3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8C210-B2D4-4035-82C2-D7BA76A7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30AFB-94BB-4846-A74C-3F018D60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5431-D8EC-4D81-BF08-8FF73C4A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2AADF-2BB7-49C1-8D0F-11389E1D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EDA9-C0B2-476D-A6AB-0708779C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A0F75-78CE-4475-BBBD-9B58874E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E105-2E82-4BC4-B0B6-589CBDFA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AACA9-A512-4098-9C77-7D3BE167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8158-C28D-4E11-99EB-A34598FA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52C86-FA19-4D96-B472-C4996694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2A048-163C-4479-9819-15598258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068A7-E965-4F7C-BDBC-24592B3D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4718-DB48-4362-860B-7E29B71E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2E56E-F3DE-4EDC-A586-28D80C70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BC3D6-0CEB-41BC-AD99-C8A26C6E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D29AD-CA4B-4173-B58E-244D2CB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4C24-8AB2-40EF-ACF2-58096FD3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4F662-8436-4489-84AD-62EF40E8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FEFE7-66F5-4DD3-99C0-BB7A7144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2C5DD-4243-4951-A6B8-1952C109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B854F-F6BA-4E08-8C0A-377CAC4FA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54F0D-9EE5-4AC5-B218-0DB39021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7EDD-A1BF-43E2-8954-D20F579C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DAD13-47AD-442C-91BD-8610AC93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24441-D384-4F8D-BAE1-0A79CA83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62A1-E764-45F5-87DA-64BFB802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AAAE-1D92-4A2D-B908-A4C372A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2FB97-1218-492D-85A3-4C438CF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23191-F418-46ED-BC54-63B9F8BF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7832D-E233-4649-99FA-2AC872EB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02D4E-D74E-4512-902A-15C2D9AE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F0C24-617E-45E1-80BA-55650E2A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38CDA-D560-4EF1-90AB-018ED0EB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EAED6-B866-4D74-9434-E0B50F7E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09B99-E353-4002-BD18-878CBCA4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3F8CD-C92A-4119-9883-CB943F59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A44D9-47D8-45D3-AC8B-D163A02E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33B3-8417-4FA7-8735-87593F99B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864B-C8D3-49BC-B8CE-E298BB1A4B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487D-1C4C-4598-AF4F-1987E97CF9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7BFC-785A-4CE6-837B-FD08A6DE71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71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74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BB07-3B9C-4385-9314-6873221B47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2766-B507-47EF-8DE2-29330AACE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DACD-B205-40C5-A7D6-17AE548F60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4028-8E21-48F9-8C12-CFF9A8F13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D525-4E89-4376-B056-CED2031D6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45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46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95E-9023-4966-86D9-A85D77B89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3a6f3e"/>
              </a:gs>
              <a:gs pos="50000">
                <a:srgbClr val="80b984"/>
              </a:gs>
              <a:gs pos="100000">
                <a:srgbClr val="3a6f3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96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3cbb5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299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76a55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76a55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E34B-9596-422C-95A5-C78A784E55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558659"/>
              </a:gs>
              <a:gs pos="100000">
                <a:srgbClr val="9ec3a1"/>
              </a:gs>
            </a:gsLst>
            <a:lin ang="16200000"/>
          </a:gradFill>
          <a:ln cap="rnd" w="3240">
            <a:solidFill>
              <a:srgbClr val="52775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BF06-F9E3-4502-9683-A2300561C9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3cb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aebde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aebde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2a37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b0ccb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D270-C5CB-412B-8CB6-4165BFE9DE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120" y="1752480"/>
            <a:ext cx="80773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ФИЗИОЛОГИЈА ОРОФАЦИЈАЛНОГ БО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5" name="TextBox 6"/>
          <p:cNvSpPr/>
          <p:nvPr/>
        </p:nvSpPr>
        <p:spPr>
          <a:xfrm>
            <a:off x="1658160" y="685800"/>
            <a:ext cx="57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АКУЛТЕТ МЕДИЦИНСКИХ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7"/>
          <p:cNvSpPr/>
          <p:nvPr/>
        </p:nvSpPr>
        <p:spPr>
          <a:xfrm>
            <a:off x="1295280" y="3581280"/>
            <a:ext cx="7086600" cy="17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редмета: 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ЦИЈАЛНИ Б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вање бр. 0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ске јединице: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настанка бола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ација бо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 и хронични б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52388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ц др Слободан Лончареви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р Денис Брајковић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8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рни маркери су укључени у процес преноса и модулације бола. У случају активације ноцицептора долази до поремећене екпресије ових молеку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екули на површини нервне мембран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и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ергички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ептидргичк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онски канал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ропептиди који се синтетишу и складиште у нервној ћелији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(супстанца </a:t>
            </a:r>
            <a:r>
              <a:rPr b="0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</a:t>
            </a:r>
            <a:r>
              <a:rPr b="0" lang="sr-Latn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GRP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зим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5" name="Title 1" descr=""/>
          <p:cNvPicPr/>
          <p:nvPr/>
        </p:nvPicPr>
        <p:blipFill>
          <a:blip r:embed="rId1"/>
          <a:stretch/>
        </p:blipFill>
        <p:spPr>
          <a:xfrm>
            <a:off x="450720" y="212760"/>
            <a:ext cx="82425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ОЦЕПТОРЕ МОГУ АКТИВИРАТИ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</a:t>
            </a:r>
            <a:r>
              <a:rPr b="1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ки, термички, хемијски и електрични надражаји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1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дијатори запаљенских реакциј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аболити, леукотријени, серотонин, хистамин, простагландини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) </a:t>
            </a:r>
            <a:r>
              <a:rPr b="1" lang="sr-R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и модулатори ноциоцептора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F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ктор раста нерава и супстанца Р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ражај доводи до настанка деполаризаци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ски потенцијал генерише акциони потенција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еквенца акционог потенцијала је пропорционална амплитуди рецепторског потенција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7" name="Title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52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промене у одговору ноцицептора након активаци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ткива праћено је локалном инфламаторном реакцијом која се одликује активирањем имуних ћелија и ослобађањем бројних медијатора запаљења који проузрокују периферну сензитизацију ноцицептора у орофацијалној региј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зација ноцицептора подразумева смањење прага надражаја и појачан одговор на стимулус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запаљења и алгогене супстанце из оштећеног ткива, ћелија и крви проузрокују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ферну сензитизацију ноцицептор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а се клинички манифестује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арном хипералгезиј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арна хипералгезиј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клининички манифестује повећањем болне остетљивости на термичке и механичке надражаје и траје неколико сати након траум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9" name="Title 1" descr=""/>
          <p:cNvPicPr/>
          <p:nvPr/>
        </p:nvPicPr>
        <p:blipFill>
          <a:blip r:embed="rId1"/>
          <a:stretch/>
        </p:blipFill>
        <p:spPr>
          <a:xfrm>
            <a:off x="195120" y="73080"/>
            <a:ext cx="84981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а модулација б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Хипералгез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(субјективни одговор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 праг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 бол на натпраговне др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и 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8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зитиз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дговор ноцицептор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 праг надраж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 одговор на натпраговне др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а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 txBox="1"/>
          <p:nvPr/>
        </p:nvSpPr>
        <p:spPr>
          <a:xfrm>
            <a:off x="75960" y="99072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транслационе и посттранскрипционе промене 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запаљења делују преко специфичних рецептора и јонских канала на периферном терминалу ноцицептора. Активирани рецептори потом иницирају деполаризацију неурона или активирају унутарћелијске ензимске каскаде које започињу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анслациону модификациј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х канала на мембрани ноцицептора (активирају настанак и пропагацију акционог потенцијал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лационе промене укључују фосфорилацију јонских канала и појачан инфлукс јона натријума и калцијума у нервну ћелију што резултује брзим настанком акционог потенцијал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2401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 на бол зависи од интензитета и дужине трајања стимулус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56" name="Title 1" descr=""/>
          <p:cNvPicPr/>
          <p:nvPr/>
        </p:nvPicPr>
        <p:blipFill>
          <a:blip r:embed="rId1"/>
          <a:stretch/>
        </p:blipFill>
        <p:spPr>
          <a:xfrm>
            <a:off x="-79200" y="-85680"/>
            <a:ext cx="9144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ван болни стимулус може довести до дуготрајнијих промена на ноцицепторима и виду модификације њихове функ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промене укључују </a:t>
            </a:r>
            <a:r>
              <a:rPr b="1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транскрипционе промене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ду повећеног броја јонских канала на мембрани неурона и повећаној синтези и ослобађању медијатора бол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је </a:t>
            </a:r>
            <a:r>
              <a:rPr b="1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зитизација ноцицептора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се одликуј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иженим прагом надража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јачаним одговором на надражај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нтаном активношћ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58" name="Title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 ткива праћено је локалном инфламаторном реакцијом која се одликује активирањем имуних ћелија и ослобађањем бројних медијатора запљења, неуротрансмитера и неуромодулатора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staglandini (PG), serotonin, biogeni amini (histamin, 5-hidroksi triptamin, 5-HT), bradikinin, SP, CGRP, azot monoksid (NO), citokini (IL-1, IL-6, TNFα), ekscitatorne aminokiseline (glutamat, aspartat), purini (ATP, adenozin), NGF, katjoni (H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K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упстанце активирају примарне ноцицептивне и инфламаторна реакције и показују јако изражен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нергизам дејств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 импулс могу га индукују надражаји који активирају ноцицепторе и доводе до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ламације (траума ткив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цидите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ичких оштећења (&lt;5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&gt;45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º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 надражаја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одулацији бола на периферном нивоу важну улогу имају карактеристике ноцицептора и аферентних влакана и ткивна реакција (запаљењ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2" name="Title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57200" y="1481040"/>
            <a:ext cx="403848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Медијатори запаљењ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гланди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ами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и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ки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</a:t>
            </a: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RP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 монокси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F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ервни фактор раст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таторне аминокиселине (глутамат, аспартат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4953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арактеристике ноцицептор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и на ћелијској мембра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 канал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ероградни транспор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градни транспор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нервног влак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и трајање запаљењ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5" name="Title 3" descr=""/>
          <p:cNvPicPr/>
          <p:nvPr/>
        </p:nvPicPr>
        <p:blipFill>
          <a:blip r:embed="rId1"/>
          <a:stretch/>
        </p:blipFill>
        <p:spPr>
          <a:xfrm>
            <a:off x="-648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запаљења делују преко специфичних рецептора на ћелијској мембрани на периферном терминалу рецептор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ани рецептори потом иницирају деполаризацију неурона или активирају унутарћелијске каскаде ензима који мењају пропустљивост јонских  канала за јоне и тиме повећавају степен надражљивости неу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јатори запањеља узрокују сензитизацију ноцицептора двојако: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ирект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имулацијом нервних завршетака и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рект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меном нервног одговора, који карактерише способност сензорних нерава да мењају своју функцију, хемијски профил и структуру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еуронска пластично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6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ЕХАНИЗАМ НАСТАНКА 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ГОРЕ ЧОВЕКОВО ИСКУ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ШНИЈИ ГОСПОДАР ЉУДСКЕ ВРСТЕ НЕГО И САМА СМ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СУСТВО БОЛА ТЕМЕЉ ЉУДСКЕ СРЕЋ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ЋИ ПАЦИЈЕНТИМА У КУПИРАЊУ Б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 ПОЗНАВАЊЕ МЕХАНИЗАМА НАСТАНКА Б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9" name="Title 1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86840" cy="15969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" descr=""/>
          <p:cNvPicPr/>
          <p:nvPr/>
        </p:nvPicPr>
        <p:blipFill>
          <a:blip r:embed="rId3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вна активација ноцицептора у орофацијалној регији доводи до сензитизације централних неурона тригеминалног систе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Централна сензитизација неуро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стање поваћане активности неурона тригеминалног једра и виших нервних центара у смислу промене њихове функције, хемијског профила и структуре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развоја централне сензитизације долази до појава појачаног болног одговора на ноцицептивне дражи ван граница оперативног поља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секундарна хипералгезија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јаве бола на надражаје који у физиолошким условима не изазивају бол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алодинија)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карактеристике ноцицептивног импулса потребне за започињање процеса централне сензитизације јесу интензитет и трајање болног стимулус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2" name="Title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а и централна сензитизација су два нераскидива феномена која карактерише способност нервног ткива да се прилагоди јачини надражаја која тежи да оштети ткиво (пластичност нервног одговора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а сензитизација представља акутни одговор на штетни стимулус, док је централна сензитзација укључена у дуготрајне процесе хиперсензитивности на месту повреде, али и у процесима регенерације ткива и памћења бол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функционалних карактеристика (висок праг надражаја и продужена деполаризација) амилелинских Ц влакана, њихова продужена деполаризација има главну улогу у процесу настанка централна сензитиза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0" y="14810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физиолошку основу централне сензитизације чини појачано пражњење централних неурона услед повећаног ослобађања ексцитаторних аминокиселина (глутамат) и азот-моноксид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ледствена модификациј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-3-hidroksi-5-metil-4-izoksazol propionat (AMPA) i N-metil-D-aspartat (NMDA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а која омогућава дуготрајну активност неу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ациј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M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а је најзначајнији механизам у активацији процеса централне сензитзације и за последицу има повећање нивоа калцијума у нервној ћелиј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 инфлукс калцијума је одговоран за настанак постранслационих и постранскрипционих промена централних ноцоцептивних неуро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hl i saradnic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на моделу хируршког вађења доњих умњака код здравих пацијенат показали да механичка, термичка и електрична сензитизација постоји и 30 дана након интервенције, чак и у одсуству спонтаног бола и порад примене постоперативних аналгетика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ј истаћи да су аутори регистровали постојање клиничких знакова централне сензитизације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нтактба хипералгезија у оперативном пољу (примарна хипералгезиј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већана болна осетљивост изван зоне оперативног поља (секундарна хипералгезиј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мањена могућност адаптације неуро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Алодиниј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И ИМПУЛСИ УЛАЗЕ У ДОРЗАЛНЕ РОГОВЕ КИЧМЕНЕ МОЖДИНЕ И ТУ ПОДЛЕЖУ МОДУЛАЦИЈ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СТИМУЛУСИ СЕ ПРЕНОСЕ ПУТЕМ СВИХ СЕНЗОРНИХ ВЛАКА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L-MALZACK-ova ТЕОРИЈА МОДУЛАЦИЈЕ БО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АЦИЈА НА НИВОУ ДОРЗАЛНИХ РОГОВА КИЧМЕНЕ МОЖДИНЕ, СРЕДЊЕГ МОЗГА И ВИШИХ МОЖДАНИХ НИВО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ХЕМИЈСКИ МЕДИЈАТОРИ НАСТАЛИ ПРИ ПОВРЕДИ ТКИВА, ПОВЕЋАВАЈУ ЕКСЦИТАБИЛНОСТ НЕРВНОГ СИСТЕМ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РФИНИ, НОРАДРЕНАЛИН И СЕРОТОНИ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ВАЊЕ ЊИХОВИХ АНТАГОНИСТА – НАПРЕДАК У ТЕРАПИЈИ БОЛ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0" name="Rectangle 2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ТЕОРИЈЕ НЕУРОТРАНСМИСИЈ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А НЕУРОТРАНСМИСИЈА “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ЕЛЕГРАФСКА ТРАНСМИСИЈ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СПЕЦИФИЧНА ВЕЗА НЕУРОТРАНСМИТЕРА И СПЕЦИФИЧНОГ РЕЦЕПТОРА ПУТЕМ СИНАПС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НЕУРОТРАНСМИТЕР УЛАЗИ У ИНТЕРСТИЦИАЛНИ ПРОСТОР И НАЂЕ СВОЈ РЕЦЕПТ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ФСКА ТРАНСМИСИЈА – СПЕЦИФИЧНЕ ВЕЗЕ ИЗМЕЂУ НЕУРОТРАНСМИТЕРА И ЊЕГОВОГ СПЕЦИФИЧНОГ РЕЦЕП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ОЛУМСКА ТРАНСМИСИЈ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ХЕМИЈСКИ ТРАНСМИТЕР   НАПУСТИ СИНАПСУ И ТРАЖИ СВОЈ РЕЦЕПТОР ГДЕ ГОД ДА ЈЕ И У БИЛО КОМ БРОЈ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ТРАНСМИСИЈЕ НЕ МОГУ ЗАМЕНИТИ ЈЕДНА ДРУГУ АЛИ МОГУ ДА ПОЈАЧАЈУ СВАКА СВОЈУ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СКА ТРАНСМИСИЈА”- ЕФЕКТНИЈА И ИЗВЕСНИ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72a37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2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5"/>
          <p:cNvSpPr/>
          <p:nvPr/>
        </p:nvSpPr>
        <p:spPr>
          <a:xfrm>
            <a:off x="228600" y="2286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edare dolorem, divinum opus es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мањити бол, божанско је дел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6" descr="mozak"/>
          <p:cNvPicPr/>
          <p:nvPr/>
        </p:nvPicPr>
        <p:blipFill>
          <a:blip r:embed="rId1"/>
          <a:stretch/>
        </p:blipFill>
        <p:spPr>
          <a:xfrm>
            <a:off x="2895480" y="1366920"/>
            <a:ext cx="624852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4"/>
          <p:cNvSpPr/>
          <p:nvPr/>
        </p:nvSpPr>
        <p:spPr>
          <a:xfrm>
            <a:off x="533520" y="38088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 О Л = Ноцицеп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свестан, непријатан сензорни доживља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непријатан сензорни и емотивни доживљај који је  повезан са постојећим (актуелним) оштећењем тк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афективни стимулус који изазива рефлекс избег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последица болести или лезије соматосензорног 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 је сензација која је карактеристична по групи непријатних осећаја, која активира аутономни, физиолошки, соматомоторни одгов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цепто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28240" y="10663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и нервни завршеци који се налазе у готово свим ткивима, одговорни су за утврђивање врсте и опсега оштећења тки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чје ткива за које је одговоран један ноцицептор назива се подручје пријема, и у орофацијелном систему је релативно мало за појединачне ноцицепторе (густа инерв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птори за бол налазе се на терминалима A делта  i C аферентних вла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aрактеристи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 и складиштење неуропепт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ни јонски канали и рецептори на површини мем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г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су високо специјализовани завршеци сензитивних нервних вла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цептори могу да реагују на разне наражаје: механичке, термичке и хемијске, и због тога су полимод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06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606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та класификација неу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ип влакана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омер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hr-HR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Брзина</a:t>
            </a:r>
            <a:r>
              <a:rPr b="0" lang="hr-HR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кна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ијелинизова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α             </a:t>
            </a:r>
            <a:r>
              <a:rPr b="0" lang="sr-R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3-20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µм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70-120 m/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β             </a:t>
            </a:r>
            <a:r>
              <a:rPr b="0" lang="sr-R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6-13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µм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40-7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γ            </a:t>
            </a:r>
            <a:r>
              <a:rPr b="0" lang="sr-R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-8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µм 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15-40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δ             </a:t>
            </a:r>
            <a:r>
              <a:rPr b="0" lang="sr-R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</a:t>
            </a:r>
            <a:r>
              <a:rPr b="0" lang="hr-HR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-5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µм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5-15 m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лакна</a:t>
            </a:r>
            <a:r>
              <a:rPr b="1" lang="hr-H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емијелинизована)</a:t>
            </a:r>
            <a:r>
              <a:rPr b="1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,5- 1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µм  </a:t>
            </a:r>
            <a:r>
              <a:rPr b="0" lang="hr-HR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0.5- 2 m/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-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α</a:t>
            </a: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A-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β</a:t>
            </a: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A-</a:t>
            </a:r>
            <a:r>
              <a:rPr b="1" lang="sr-R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γ</a:t>
            </a:r>
            <a:r>
              <a:rPr b="1" lang="hr-HR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а преносе тактилне и проприоцептивне импулсе, али не и б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c8c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A-</a:t>
            </a:r>
            <a:r>
              <a:rPr b="1" lang="sr-R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δ</a:t>
            </a:r>
            <a:r>
              <a:rPr b="1" lang="hr-HR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i </a:t>
            </a:r>
            <a:r>
              <a:rPr b="1" lang="sr-R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мијелизована </a:t>
            </a:r>
            <a:r>
              <a:rPr b="1" lang="hr-HR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C </a:t>
            </a:r>
            <a:r>
              <a:rPr b="1" lang="sr-RS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влакна</a:t>
            </a:r>
            <a:r>
              <a:rPr b="1" lang="hr-HR" sz="32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е бол, али и друге надражај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та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е и додир, топлоту и хладноћу, док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а преносе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раб, топлоту и хладноћу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цептор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088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т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ерентна влак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икује постојање ниског прага за бол, а као слабо мијелинизована спроводе осећај јаког, акутног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јелизован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одликују вишим прагом за бол и дужим трајањем акционог потенцијала у поређењу с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елт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книма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ом трауме и инфламације ова влакна су одговорна за појаву дуготрајног бола слабог интензитета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итизац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ијелинских С влакана резултује њиховим смањењем прага за бол и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пералгезиј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чан осећај бола на физиолошке стимулу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елинизован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лф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а влакна у физиолошким околностима не спроводе болне импулсе, већ пре свега тактилне механичке сензације. Након продужене инфламације ова влакна могу стичу пептидергичка својства и способност генерисања болног импулса (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ена фенотип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што се клинички манифестуј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ом бола на физиолошке стимулус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одиниј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активних рецептора у ткиву су присутни и неактивни рецептори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leeping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активирају на интензивне болне стимулу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РВНА ВЛАКНА ОДГОВОРНА ЗА ПРЕНОС 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606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А-</a:t>
            </a:r>
            <a:r>
              <a:rPr b="1" lang="el-GR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δ</a:t>
            </a:r>
            <a:r>
              <a:rPr b="1" lang="en-US" sz="24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 влак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 оштрог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бадајуће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 праг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648320" y="2057040"/>
            <a:ext cx="40384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ијелизована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влак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нија у периферним сензорним влакн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к праг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ије преносе импул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 тупог дуготрајног б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ација надража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0" y="1714320"/>
            <a:ext cx="9144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1e464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e4649"/>
                </a:solidFill>
                <a:latin typeface="Times New Roman"/>
                <a:ea typeface="Calibri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ферентна влак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δ i C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цицептивних неурона тригеминуса највећим делом завршавају у лами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i II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иналног тригеминалног једра чинећи синапсу са централним ноцицептивним неуро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ви неурони припадају групи пројекционих неурона, подељених у две груп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пецијализовани ноцицептивни неурон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неурони високог прага надражаја који реагују искључиво на болне стимулусе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sr-Latn-R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NS – nociceptive specific neuron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урони широког опсег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ји примају и ноцицептивне (и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Aδ i C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лакана) и проприоцептивне стимулусе (из А алфа влакана)  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sr-Latn-RS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WDR wide dynamic range neurons</a:t>
            </a: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ферентна влакна из ових неурона улазе у састав 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игеминалног лемнис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649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533520" y="30492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а пројекција ноцицептивних влак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1:28:26Z</dcterms:created>
  <dc:creator>muti</dc:creator>
  <dc:description/>
  <dc:language>en-US</dc:language>
  <cp:lastModifiedBy>DENIS</cp:lastModifiedBy>
  <dcterms:modified xsi:type="dcterms:W3CDTF">2015-06-15T20:03:56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